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1D79-0A09-4435-B174-1A4FD8A7F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47AF-5451-4900-9AD2-D1C159537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29FF-3143-42AE-ACBB-E3B1102F9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F1C4-B579-4FDC-B0A5-DCF5C9D98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4D16-14E0-41FC-AFA1-4E6F7172D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578D-AE66-4BA6-9076-3DD57A25E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DAC9-46F7-472B-8882-EBF6B75D1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9B9C-7F59-448A-AA34-CF4BA72DC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3AFF-C0EB-4F4F-A0D6-9958DB7EC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3E63-E635-4C5B-926E-E6E1D36E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0975-C49A-483E-A52A-15D4CC03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9AE0-C29F-4F27-B18F-D050905C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4FCF5-68B5-4864-A04C-25FDE77FC1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15328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4179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447920" y="0"/>
            <a:ext cx="572436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6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6400800" cy="36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482760"/>
            <a:ext cx="9144000" cy="58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52560"/>
            <a:ext cx="9144000" cy="67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1069920"/>
            <a:ext cx="9144000" cy="47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587680" y="246240"/>
            <a:ext cx="3968640" cy="63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411120"/>
            <a:ext cx="9144000" cy="60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75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80880" y="-42840"/>
            <a:ext cx="8229600" cy="68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382680"/>
            <a:ext cx="9144000" cy="60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177840"/>
            <a:ext cx="8839080" cy="62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2280" y="488880"/>
            <a:ext cx="8686800" cy="57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166680"/>
            <a:ext cx="9144000" cy="65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01200" cy="68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720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446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774720" y="-1219320"/>
            <a:ext cx="10693440" cy="929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-90360"/>
            <a:ext cx="9144000" cy="70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507960" y="114480"/>
            <a:ext cx="101599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609480" y="171360"/>
            <a:ext cx="10058400" cy="691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6T02:41:00Z</dcterms:created>
  <dc:creator>lucy/laffitte</dc:creator>
  <dc:description/>
  <dc:language>en-US</dc:language>
  <cp:lastModifiedBy>lucy/laffitte</cp:lastModifiedBy>
  <dcterms:modified xsi:type="dcterms:W3CDTF">2011-05-26T04:11:00Z</dcterms:modified>
  <cp:revision>2</cp:revision>
  <dc:subject/>
  <dc:title>PowerPoint Presentation</dc:title>
</cp:coreProperties>
</file>